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578-4EEF-49E9-8BC3-81EB8586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C80-A4F9-443A-B63D-EB30C440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EF5-60A1-4AD1-B9FA-242918D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409-51E6-4E27-A236-5E92AEF5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25C-894A-4426-A3F7-60A37BF2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46D-3053-46AD-8BC7-6A79927A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9DE-7C5B-4D5C-8D78-ABF93B4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18D-FFD2-47AD-9803-C938EDC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0B3-FA38-40EB-AF69-60DC4F4F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A62-356C-4DF3-8739-C5D56BB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F19-C4E8-4E1A-9039-0A3A2C4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FCD-8985-4F15-9AF5-A3CFCC0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FA33-DB9E-4917-A868-15999480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uld the bowt flote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ere can I find a bo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ally likes writing leter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ally likes writing letter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Brad never write bak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Brad never writes back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uld the bowt flote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Could the boat float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ere can I find a bo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Where can I find a bowl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Did Alan finds the mailbo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o mail some letters she wr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Did Alan finds the mail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id Alan find the mailbox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 mail some letters she wr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Jo mails some letters she wrot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got the leter a week ag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opened itt right aw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got the leter a week ag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got the letter a week ag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opened itt right aw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I opened it right awa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Shee likes to visit her Grandma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She show her noo thing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Shee likes to visit her Grandma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he likes to visit her grandma.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She show her noo thing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She shows her new things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ally likes writing leter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Brad never write bak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06T19:37:00Z</dcterms:modified>
  <cp:revision>39</cp:revision>
  <dc:subject/>
  <dc:title>Slide 1</dc:title>
</cp:coreProperties>
</file>